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0F4A-53D3-4D06-8367-1C66F7631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FEB5-22ED-449B-B9BE-7AB5ECBC6A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471-F5C2-42C6-8272-4F0BACC1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54E-29BF-4215-B52D-E85A12AF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606-773A-404A-AF64-FA129F93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D75-581E-4752-B2DD-46A8AD44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E742-2CF1-48D1-AFFD-D1CCD2F2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1A99-9D44-40ED-A5F3-93DE2997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F02D-788E-4374-961C-9333CEE6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942C-8D9C-4A1E-B131-D9827A34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2B18-714F-4756-A225-193A69BB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2766-315D-4E04-8E55-49EA3A11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99B6-9A2D-45E1-AAA2-0E76EB36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E5D-3485-4E14-844D-79C23993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C9FF-44BE-4BF6-BE4E-FB8A08BC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28AC-0C60-479D-83A6-668055E6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EBD0-F6D6-481E-B0E9-130063BA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568A-8C2E-4239-93FE-CE3D5DB8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14B1-9518-4BB9-B362-E2B7E36E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B3049-E756-4B1D-823A-7DA70726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CE8B-A930-45B9-8F67-1B37C828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C35BF-565B-40BB-BEB5-1795361B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17C63-D954-475B-9E25-767852F6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2C063-DDA6-4009-8F5C-B3ACCB52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A93-3BDF-4D00-84CE-93BA393B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88EA6-0773-47B5-8648-C3443295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73EBD-2E6C-47C6-81E3-A6A6F498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7DE20-DB98-4DCA-AE90-1A59D383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943AD-4ED4-45AB-AEF0-36E15F19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8EB50-A677-4E1A-AEEE-A19655A1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645B5-E349-452A-966E-6BAD98DF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20570-5531-4712-AAB8-4CFCD3AC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B71B8-A65F-449F-8AB6-99A691C9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FEC65-1618-4C67-BE0F-34C1E40E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10BF1-3D30-407C-93B7-70368D62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C01-F38E-426B-86F9-FC05FE11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33D60-553A-4117-BBEE-7A888C4C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FC265-598E-44B0-8811-FDB72CB8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37D29-3346-406F-87BA-4970A8E4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82BD3-0208-4E7D-8024-161A0A10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8116F-7AA8-4CA4-B794-633D6E42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26482-1DBC-4F63-B14F-76464493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C5FB2-82C4-4FD8-BB12-0E1B9C39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47622-775F-426F-AC67-3283529A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5C733-14AF-4053-855C-5C8BAB4B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BCA-4F1C-4262-8909-9007B82E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7CF2-7528-4215-B4BC-2382A5A9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7B6-DB66-4852-BBA2-831AB3D3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925-BC2F-44AF-982A-C4322A9A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13A-E317-427C-98DE-8B22B55B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6D41-E461-4F32-B697-AA995411BC8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8E3A-1444-478E-843E-2A7F8885E17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2DEA-BF35-495B-8F05-0489EE27625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F459-C92B-449F-9309-9D04DA9B131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0175-3367-4BB1-BE4C-5EC19B67238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E375-A500-4438-8EDA-757AFC23026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20E2-0168-407E-8F23-9B851C53037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E18C-EF9D-472B-9F11-45D04E8A339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HE CELL MEMBRAN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5" descr="06_05"/>
          <p:cNvPicPr/>
          <p:nvPr/>
        </p:nvPicPr>
        <p:blipFill>
          <a:blip r:embed="rId1"/>
          <a:srcRect l="0" t="21000" r="0" b="15000"/>
          <a:stretch/>
        </p:blipFill>
        <p:spPr>
          <a:xfrm>
            <a:off x="380880" y="2193840"/>
            <a:ext cx="8410680" cy="403704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5EAC-AD3B-4CA1-82FD-D445E4332E2C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FG05_03"/>
          <p:cNvPicPr/>
          <p:nvPr/>
        </p:nvPicPr>
        <p:blipFill>
          <a:blip r:embed="rId1"/>
          <a:srcRect l="1668" t="0" r="71668" b="7569"/>
          <a:stretch/>
        </p:blipFill>
        <p:spPr>
          <a:xfrm>
            <a:off x="152280" y="1216080"/>
            <a:ext cx="2438640" cy="3965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FG05_03"/>
          <p:cNvPicPr/>
          <p:nvPr/>
        </p:nvPicPr>
        <p:blipFill>
          <a:blip r:embed="rId2"/>
          <a:srcRect l="29166" t="0" r="47503" b="7569"/>
          <a:stretch/>
        </p:blipFill>
        <p:spPr>
          <a:xfrm>
            <a:off x="2666880" y="1219320"/>
            <a:ext cx="2133720" cy="3965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FG05_03"/>
          <p:cNvPicPr/>
          <p:nvPr/>
        </p:nvPicPr>
        <p:blipFill>
          <a:blip r:embed="rId3"/>
          <a:srcRect l="50836" t="0" r="25003" b="7569"/>
          <a:stretch/>
        </p:blipFill>
        <p:spPr>
          <a:xfrm>
            <a:off x="4876920" y="1219320"/>
            <a:ext cx="2209680" cy="3965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FG05_03"/>
          <p:cNvPicPr/>
          <p:nvPr/>
        </p:nvPicPr>
        <p:blipFill>
          <a:blip r:embed="rId4"/>
          <a:srcRect l="73336" t="0" r="6669" b="7569"/>
          <a:stretch/>
        </p:blipFill>
        <p:spPr>
          <a:xfrm>
            <a:off x="7162920" y="1219320"/>
            <a:ext cx="1828800" cy="396540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93BC-B0EB-4780-A91C-7F0957BCC1F7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06_07"/>
          <p:cNvPicPr/>
          <p:nvPr/>
        </p:nvPicPr>
        <p:blipFill>
          <a:blip r:embed="rId1"/>
          <a:srcRect l="0" t="3110" r="0" b="4386"/>
          <a:stretch/>
        </p:blipFill>
        <p:spPr>
          <a:xfrm>
            <a:off x="366840" y="898560"/>
            <a:ext cx="8410320" cy="5835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90400" y="158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NY FUNCTIONS OF MEMBRANE PROTEI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551520" y="1380960"/>
            <a:ext cx="779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sid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581760" y="2117880"/>
            <a:ext cx="10569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sm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embran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532800" y="2960640"/>
            <a:ext cx="604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sid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2147400" y="3300480"/>
            <a:ext cx="117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6970320" y="3344760"/>
            <a:ext cx="11833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ell surfa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cepto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4790880" y="3300480"/>
            <a:ext cx="788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zy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ctivit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2004840" y="6216480"/>
            <a:ext cx="14972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ell surfac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dentity mark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6739920" y="6229440"/>
            <a:ext cx="17791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ttachment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ytoskelet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4484880" y="6195960"/>
            <a:ext cx="1358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ell adhes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5" name="Slide Number Placeholder 1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89C1-082A-49E5-9B0A-560DDEA71F3D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FLUID MOSAIC MODEL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osaic - A picture or pattern produced by arranging together small colored pieces of hard material, such as stone, tile, or gla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8" name="Picture 2" descr="http://img2.etsystatic.com/001/0/7131231/il_fullxfull.360103590_mu6l.jpg"/>
          <p:cNvPicPr/>
          <p:nvPr/>
        </p:nvPicPr>
        <p:blipFill>
          <a:blip r:embed="rId1"/>
          <a:srcRect l="22231" t="10552" r="13700" b="0"/>
          <a:stretch/>
        </p:blipFill>
        <p:spPr>
          <a:xfrm>
            <a:off x="2789280" y="3200400"/>
            <a:ext cx="3352680" cy="3133800"/>
          </a:xfrm>
          <a:prstGeom prst="rect">
            <a:avLst/>
          </a:prstGeom>
          <a:ln w="0">
            <a:noFill/>
          </a:ln>
        </p:spPr>
      </p:pic>
      <p:sp>
        <p:nvSpPr>
          <p:cNvPr id="229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51F3-33F9-485D-8A6B-071D7D021A11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FLUID MOSAIC MODEL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Fluid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– because individual phospholipids and proteins can move side-to-side within the layer like it’s a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Mosaic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– because of the pattern produced by the scattered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protei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molecules when the membrane is viewed from abov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2" name="Picture 2" descr="http://www.mhhe.com/biosci/pae/botany/uno/graphics/uno01pob/vrl/images/0093.gif"/>
          <p:cNvPicPr/>
          <p:nvPr/>
        </p:nvPicPr>
        <p:blipFill>
          <a:blip r:embed="rId1"/>
          <a:srcRect l="0" t="27079" r="0" b="0"/>
          <a:stretch/>
        </p:blipFill>
        <p:spPr>
          <a:xfrm>
            <a:off x="1523880" y="3352680"/>
            <a:ext cx="6019920" cy="329256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3E8E-11B6-4AD5-8D8B-0E3BB2342D82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ELL MEMBRANE UNDER ELECTRON MICROSCOP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5" name="Picture 4" descr="plasma_membrane_of_c_la_435"/>
          <p:cNvPicPr/>
          <p:nvPr/>
        </p:nvPicPr>
        <p:blipFill>
          <a:blip r:embed="rId1"/>
          <a:stretch/>
        </p:blipFill>
        <p:spPr>
          <a:xfrm>
            <a:off x="609480" y="1752480"/>
            <a:ext cx="8001000" cy="396108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2598-DBA2-4C0A-8916-26C96A2F7890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OVERVIEW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he cell membrane separates living cells from their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surrounding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Very thin – 8nm thic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lso known as the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lasma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Membran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ntrols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traffic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in and out of the cel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Made mostly of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hospholipids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rotei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Selectively permeable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– allows some substances to cross more easily than other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9" name="Picture 9" descr="FG05_01"/>
          <p:cNvPicPr/>
          <p:nvPr/>
        </p:nvPicPr>
        <p:blipFill>
          <a:blip r:embed="rId1"/>
          <a:srcRect l="0" t="0" r="2502" b="5067"/>
          <a:stretch/>
        </p:blipFill>
        <p:spPr>
          <a:xfrm>
            <a:off x="2133720" y="4191120"/>
            <a:ext cx="5029200" cy="2477880"/>
          </a:xfrm>
          <a:prstGeom prst="rect">
            <a:avLst/>
          </a:prstGeom>
          <a:ln w="0">
            <a:noFill/>
          </a:ln>
        </p:spPr>
      </p:pic>
      <p:sp>
        <p:nvSpPr>
          <p:cNvPr id="180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8E38-4B87-4A21-B8D8-13445F5D29FB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ELL MEMBRANE FUNCTION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ntrol 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movement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of materials into and out of the cel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intain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homeostas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omeostasis –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alanced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internal condition of cell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rm a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protective barrier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r the cel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Let the cell sense its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elp maintain 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hap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of the cel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041E-6C1D-4559-994A-7E0C0001841F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PHOSPHOLIPID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120" y="16002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mposed of 2 main parts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atty acid tail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Hydrophobic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(water hating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hosphate group hea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Hydrophilic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(water loving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rranged as a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ilay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6" name="Picture 5" descr="06_02b"/>
          <p:cNvPicPr/>
          <p:nvPr/>
        </p:nvPicPr>
        <p:blipFill>
          <a:blip r:embed="rId1"/>
          <a:srcRect l="15000" t="22500" r="24000" b="29251"/>
          <a:stretch/>
        </p:blipFill>
        <p:spPr>
          <a:xfrm>
            <a:off x="5181480" y="620640"/>
            <a:ext cx="3961080" cy="41799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7"/>
          <p:cNvSpPr/>
          <p:nvPr/>
        </p:nvSpPr>
        <p:spPr>
          <a:xfrm>
            <a:off x="6497280" y="852480"/>
            <a:ext cx="1329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Phosphate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Head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6612120" y="3048120"/>
            <a:ext cx="121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Fatty acid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Tails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9" name="Picture 7" descr="extracellular_fluid_c_la_435"/>
          <p:cNvPicPr/>
          <p:nvPr/>
        </p:nvPicPr>
        <p:blipFill>
          <a:blip r:embed="rId2"/>
          <a:stretch/>
        </p:blipFill>
        <p:spPr>
          <a:xfrm>
            <a:off x="457200" y="4724280"/>
            <a:ext cx="4267080" cy="189864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0FB1-2F57-4276-A4AB-B60F9F328ED5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PHOSPHOLIPID BILAYER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2" name="Picture 2" descr="http://images.tutorvista.com/content/cellular-micromolecules/lipid-bilayer-structure.jpeg"/>
          <p:cNvPicPr/>
          <p:nvPr/>
        </p:nvPicPr>
        <p:blipFill>
          <a:blip r:embed="rId1"/>
          <a:stretch/>
        </p:blipFill>
        <p:spPr>
          <a:xfrm>
            <a:off x="1676520" y="1523880"/>
            <a:ext cx="6172200" cy="4716720"/>
          </a:xfrm>
          <a:prstGeom prst="rect">
            <a:avLst/>
          </a:prstGeom>
          <a:ln w="0">
            <a:noFill/>
          </a:ln>
        </p:spPr>
      </p:pic>
      <p:sp>
        <p:nvSpPr>
          <p:cNvPr id="193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7F33-4DE0-41BB-B009-9AF06028FA12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PHOSPHOLIPID BILAYER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cell membrane is made of 2 layers of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phospholipids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alled the lipid bilay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Hydrophobic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olecules pass easily;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hydrophilic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molecules do no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kes the membran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“selective”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 what cross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99EC-2B37-4A76-881B-FBE646A29117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SEMIPERMEABLE MEMBRAN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cell membrane is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emipermeabl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, or selectively permeable.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mall molecules and larger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hydrophobic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molecules can move through easil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xamples: Oxygen (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), Carbon Dioxide (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), Water (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Ion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, large molecules, and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hydrophilic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molecules larger than water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do not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ove through the membrane on their ow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CE7B-8E29-449A-9497-B9AF86FB39A6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SEMIPERMEABLE MEMBRAN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01" name="Group 2"/>
          <p:cNvGrpSpPr/>
          <p:nvPr/>
        </p:nvGrpSpPr>
        <p:grpSpPr>
          <a:xfrm>
            <a:off x="304920" y="1676520"/>
            <a:ext cx="8153280" cy="4225680"/>
            <a:chOff x="304920" y="1676520"/>
            <a:chExt cx="8153280" cy="4225680"/>
          </a:xfrm>
        </p:grpSpPr>
        <p:pic>
          <p:nvPicPr>
            <p:cNvPr id="202" name="Picture 3" descr="FG05_02"/>
            <p:cNvPicPr/>
            <p:nvPr/>
          </p:nvPicPr>
          <p:blipFill>
            <a:blip r:embed="rId1"/>
            <a:srcRect l="0" t="0" r="68471" b="9163"/>
            <a:stretch/>
          </p:blipFill>
          <p:spPr>
            <a:xfrm>
              <a:off x="304920" y="1676520"/>
              <a:ext cx="2666880" cy="36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4"/>
            <p:cNvSpPr/>
            <p:nvPr/>
          </p:nvSpPr>
          <p:spPr>
            <a:xfrm>
              <a:off x="365040" y="5322960"/>
              <a:ext cx="80931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pic>
        <p:nvPicPr>
          <p:cNvPr id="204" name="Picture 5" descr="FG05_02"/>
          <p:cNvPicPr/>
          <p:nvPr/>
        </p:nvPicPr>
        <p:blipFill>
          <a:blip r:embed="rId2"/>
          <a:srcRect l="31533" t="0" r="0" b="9163"/>
          <a:stretch/>
        </p:blipFill>
        <p:spPr>
          <a:xfrm>
            <a:off x="2971800" y="1677960"/>
            <a:ext cx="5791320" cy="364500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F19F-2A9F-4C43-83AD-963E2F1A2D34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PROTEIN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cell membrane is a collage of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proteins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nd other molecules embedded in the lipid bilay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oteins are critical to membrane function by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oviding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tructural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suppor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llowing the cell to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recogniz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its surrounding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llowing the cell to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ommunicat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with other cell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oviding a way to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ransport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materials into and out of the cel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F406-5903-4DC5-A1DD-049B29ECEDB3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21:05:13Z</dcterms:created>
  <dc:creator>Ben</dc:creator>
  <dc:description/>
  <dc:language>en-US</dc:language>
  <cp:lastModifiedBy>Ben</cp:lastModifiedBy>
  <dcterms:modified xsi:type="dcterms:W3CDTF">2012-10-09T20:24:22Z</dcterms:modified>
  <cp:revision>9</cp:revision>
  <dc:subject/>
  <dc:title>The Cell Membrane</dc:title>
</cp:coreProperties>
</file>